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F81C-6B00-4CFB-B2A1-7231112A3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558E-F242-4DBF-90E9-EEE2C9745D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71EF-5AED-4034-93A3-BD4ACD812C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4616-3106-4F27-A48B-0FD1E3B64C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9276-C3CD-4DDE-9F3A-277F6C5B5F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842D-4C9A-465D-A134-97F246F5E7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B9BC-CDD8-4552-93EB-97F7A0BC08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7FDC-C0A5-4385-8D57-FBDC0A167B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8B20-4F21-42F8-998F-3AB3229029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AFBE-7541-4D2D-858D-95EEC322E0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2CA6-799F-478A-9597-F423E29F67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9E4F-AEFC-45AF-82FE-A9A73CA12A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354F-C9F7-42B8-91D2-744212860D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B65C-8B3D-40B9-9B2E-6155A2C884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5A38-8E45-4CC4-B7F9-198D91D061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27CE-B444-42CD-AF42-81B59E0B5C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ABB4-3A3B-4ADB-A617-26A052014C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07B7-20EC-4632-984A-20DC84B17A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09A-EC1B-4E48-BBEF-960E0657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ACD-8286-4BE2-9681-09CE8AA7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0A9-0632-41B9-9454-1BB2168F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957-9199-432F-A36B-14F7B42B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881C-4FC8-42E1-9250-07EE9A17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0FCA-75F0-4A5E-AACA-D9EBC420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803F-02D8-4481-B7FD-30A14F56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472F-4AA9-4117-BA36-2877F578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3603-510D-45DE-BADD-DE7506CE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7D30-6FFD-4984-8033-881A6D63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62C2-5055-482D-91AF-BBD03256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246-7767-437C-B6F2-DCA2451E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62CF-BBE4-4067-A00F-7249FCD4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A021-8501-407A-8239-A20E96DE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CC49-48A4-4DFB-8466-CC742917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2E34-A668-482E-9416-AEA568FF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6168-2E42-4909-8749-A06A92C5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1E9-4B01-4F0F-AD52-20256DE3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42D-8634-4B13-A173-D337C91A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421-59C1-41B7-BCF4-9A13E29E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E8C-BD1D-4E23-AE57-CB735CE0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1B2-4E8F-46D3-ABA4-56BDE8C7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44A-E881-4E55-862C-F097FD4B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26F-AF19-4392-93C3-735BFEA2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F35B-ADBB-4FD3-9A64-BE51B39D3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0A0F-468A-44D2-A6C4-2A24DCE1E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Comic Sans MS"/>
              </a:rPr>
              <a:t>Content Literacy in Math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Using Literacy Strategies in the Math Classro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radley Hand ITC"/>
              </a:rPr>
              <a:t>WRITING IN MATH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RUE UNDERSTANDING HAPPENS WHEN ONE CAN EXPLAIN A CONCEPT TO ANOTHER!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adley Hand ITC"/>
              </a:rPr>
              <a:t>Writing Guideline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Bradley Hand ITC"/>
              </a:rPr>
              <a:t>(According to Matkovich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from Day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be a journey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– Model– Model (show examples—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and b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the use of Vocabulary Words in writing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Bradley Hand ITC"/>
              </a:rPr>
              <a:t>Writing Activities</a:t>
            </a:r>
            <a:r>
              <a:rPr b="1" lang="en-US" sz="4400" spc="-1" strike="noStrike">
                <a:solidFill>
                  <a:srgbClr val="ccecff"/>
                </a:solidFill>
                <a:latin typeface="Bradley Hand ITC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h Story (Given as HW Day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 Journal (Interdisciplinary Jour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Summ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radley Hand ITC"/>
              </a:rPr>
              <a:t>TEAM JOURN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one every 1 ½ to 2 w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checked for completion-but not collected and actually gr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groups read their journals to each other, and pick the best one to sh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domly pick students to read (popsicle stic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group contest—which group uses the most vocabulary word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Bradley Hand ITC"/>
              </a:rPr>
              <a:t>Journal Prompt #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zy just moved to our school from Washington.  She needs you to explain how to complete the following problem.  Do not leave out one step or she will be los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½ ÷  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Bradley Hand ITC"/>
              </a:rPr>
              <a:t>Journal Entry #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Pretend you are a division sign.  Tell me about a typical day for a division sign.  Try to include 15 vocabulary words from the word wal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Describe the difference between an expression and an equ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Bradley Hand ITC"/>
              </a:rPr>
              <a:t>LESSON SUMMARIES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600200"/>
          <a:ext cx="8229600" cy="5105520"/>
        </p:xfrm>
        <a:graphic>
          <a:graphicData uri="http://schemas.openxmlformats.org/drawingml/2006/table">
            <a:tbl>
              <a:tblPr/>
              <a:tblGrid>
                <a:gridCol w="6324480"/>
                <a:gridCol w="1905120"/>
              </a:tblGrid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 NO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MARY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SENTENCES ABOUT THE LESSON!  ENCOURAGE TO INCLUDE VOCABULARY WORDS!!  CHECK FOR COMPLETION—CHOOSEN RANDOMLY TO READ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NO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S ABOUT THE NOTES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254" name="Straight Connector 5"/>
          <p:cNvSpPr/>
          <p:nvPr/>
        </p:nvSpPr>
        <p:spPr>
          <a:xfrm>
            <a:off x="457200" y="5410080"/>
            <a:ext cx="63244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XTBOOK SCAVENGER HUNT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523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Bradley Hand ITC"/>
              </a:rPr>
              <a:t>Teach students how to use their Math textbook!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P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Content Literacy a priority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, Writing,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it slow—Don’t try to implement everything at one time!!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what you choose to do has a purpose and is meaningful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vocabulary an everyday part of your classroom—Not just one special day of the week or mon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want students to write in math, you have to teach them how to do s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aching Mathematics Vocabular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Contex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by:  Miki Mur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Wall/ Personal Word 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every two week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Vocabulary Note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Vocabulary Activ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**Use Everyday in Math DISCUSSIONS!**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** Use in writing!! **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VOCABULARY NOTECA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828800"/>
          <a:ext cx="8229600" cy="3886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NON-EXA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PI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Word Examp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e--- a number with two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e– a number with more than 2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ve Property– a ( b + c) –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 Number- a number that can be written as a f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Vocabulary Activ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word Puzz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Scrambles (Exam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ctional Stories (Guidelines/Differenti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as a Var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letter to a holiday charac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**Provide a Rubric**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bonacci Poem (1, 1, 2, 3, 5, 8, 5, 3, 2, 1,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Circles (Differenti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Fibonacci Po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VI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LE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INDER Z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LAST DIGIT IS 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DIVIDE BY TW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Four Circ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1920" y="990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list of vocabulary words, and four circles.  Students must group the words into the four circles and give each circle a tit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iabl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iable Expression      Sum       Product       Quoti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Evaluate      Integ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tiona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rationa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tributive     Terminating Decimal       Repeating Decimals    Absolute 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posit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Natural     Constant       Ter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efficient        Whole       Additive Inve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utative         Associative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3"/>
          <p:cNvSpPr/>
          <p:nvPr/>
        </p:nvSpPr>
        <p:spPr>
          <a:xfrm>
            <a:off x="685800" y="5486400"/>
            <a:ext cx="1295280" cy="1219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2743200" y="5334120"/>
            <a:ext cx="1447920" cy="1371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5029200" y="5334120"/>
            <a:ext cx="1447920" cy="1371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6"/>
          <p:cNvSpPr/>
          <p:nvPr/>
        </p:nvSpPr>
        <p:spPr>
          <a:xfrm>
            <a:off x="7238880" y="5334120"/>
            <a:ext cx="1447920" cy="1371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GAME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AT VOCABULARY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OO– WITH MATH WORD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--- WHO H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49:46Z</dcterms:created>
  <dc:creator>matkovichc</dc:creator>
  <dc:description/>
  <dc:language>en-US</dc:language>
  <cp:lastModifiedBy>dd</cp:lastModifiedBy>
  <dcterms:modified xsi:type="dcterms:W3CDTF">2012-10-01T12:15:36Z</dcterms:modified>
  <cp:revision>22</cp:revision>
  <dc:subject/>
  <dc:title>Content Literacy in Math</dc:title>
</cp:coreProperties>
</file>